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70778"/>
        <c:axId val="10443789"/>
      </c:barChart>
      <c:catAx>
        <c:axId val="571707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3789"/>
        <c:crosses val="autoZero"/>
        <c:auto val="1"/>
        <c:lblAlgn val="ctr"/>
        <c:lblOffset val="100"/>
        <c:noMultiLvlLbl val="0"/>
      </c:catAx>
      <c:valAx>
        <c:axId val="10443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707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D92-4D38-4C75-8281-18E693547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851-AEBD-4ACE-A900-A567CCCC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347-7D91-4B7F-9C33-C6214E08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0EA-A7F3-4F99-96EC-44CD16264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42D-869B-4C18-81F5-9CD942FF3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C180-3D15-4152-A8C1-54F21AC7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522-47F4-401F-B127-FBB97F1A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571B-7693-4AAA-B5AC-253908AF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757-E00B-41C3-B689-D8E2B376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B4FE-5707-4612-A382-4C795AC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357-32E3-49E3-98CF-7C878934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98F-54C2-4BEE-8B24-019D4EBA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5A289-F2B9-4EB1-AFFC-065FCB8823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