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7444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5950080" y="-360"/>
            <a:ext cx="907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040" y="434304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867160"/>
            <a:ext cx="7016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6495840" y="8867160"/>
            <a:ext cx="361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A261B-986F-4F0A-AC21-3A547C74E4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3429000" y="240048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52280" y="4202280"/>
            <a:ext cx="6553440" cy="41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ault - For categories where no configuration has been def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eneral - For messages still not classif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atabase- Internal database mess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curity - Approval and denial of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nfig - Configuration file parsing and process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solver - DNS resolution, such as the recursive look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in - Zone transfers the server is recei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out - Zone transfers the server is sen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otify - The NOTIFY protoc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ient - Processing of client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nmatched - Messages with undetermined class or vie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twork - Network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pdate - Dynamic upd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queries - Query logg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ispatch - Dispatching of incoming packets to modu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nssec - DNSSEC and TSIG protocol process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ame-servers - misconfigurations of remote serve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9F270-41F8-48BF-93E8-C24B3D49E0B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AA38E-BC1F-4E44-8621-B9EFF6DF9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08647-098C-4C92-862C-47F56876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78240-119B-4001-9298-5083AE9E40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BC3C5-1347-407D-A94E-E6B0A8D8F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1DC71-7AE9-403E-BFA9-08C2D3922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BDFFA-1F97-4731-BD73-22DD43DEB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9C2CE-072F-4D95-9296-9421B7C04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2A238-7197-4952-8997-B5D5C31DD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2CF5A-238E-4586-9F78-4890A2B28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D90AB-DA63-4545-AC6A-F57B06349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126B3-9ACA-4208-A570-640E03389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360" y="6553080"/>
            <a:ext cx="10587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FA098399-4759-4E79-A6F6-27334A22C0C8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Troubleshootin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8760" y="627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un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the name server is thought to be running, make sure it i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ig @127.0.0.1 version.bind chaos tx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makes the name server do the simplest lookup it can - its version str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also confirms which version you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mmon upgrade error: running the old version, forgetting to 'make install'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B243C-D63A-44F6-B063-8B213DDE75D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Data Correc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that the server is the right one (executabl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dig @127.0.0.1 &lt;zone&gt; so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 the serial number to make sure the zone has load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so test changed data in case you forgot to update the serial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we get to secondary servers, this check is made to see if the zone transferr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B979D-3A6B-4DD8-8CA7-10834A257FBD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eachable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dig tests fail, its time to test the environment (machine, networ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ping &lt;server machine ip addres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tests basic network flow, common erro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etwork interface not U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uting to machine not corr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ing 'locally' is useful, believe it or no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nfirms that the IP address is correct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FF316-B2C7-431D-B3C7-F4FE77E1469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iste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server does not respond, but machine responds to 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ok at system log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server 53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 will run even if it can't open the network por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s will show th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opens a TCP connection, tests whether port was opened at al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603A1-491F-4EB7-80DC-F06186F69BF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ogging the Right Stuff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voking and examining the log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 files only appear when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example, dnssec logs will start only if 'trusted-keys' are configured and are 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ch category is triggered different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iggers may not be obviou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0A5C8-FCE3-4A8E-9072-48261C33CA0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he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itsel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/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st diagnotic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acket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7A0D7-B72E-40EA-A373-6A1A444877A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t in to name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g to retain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g -c &lt;conf file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in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d &lt;level&gt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ts the debug output volu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level&gt;'s aren't strictly defi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d 3 is popular, -d 99 gives a lot of detai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2636C-3896-4CF8-A0C1-20889756FF2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internet grop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ready used in examp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est tool for tes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query and response synta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man d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ig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luded in named distribu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C94C8-7837-48E7-AD96-1E12875ABF0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on-BIND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ols to make sure environment is righ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look at server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test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see what messages are on the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ACED8-0317-453F-A966-E4F4540659C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fconf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Face CONFIGu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config -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the status of interfa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perating system uti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arning, during boot up, ifconfig may configure interfaces after named is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can't open delayed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man ifconf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B5829-7E6A-4169-9DFA-49CAE6603E0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y Troubleshoo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Can Go Wrong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zo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B3BD0-AAAC-4208-BF90-8503E875220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s routing, machine health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 useful if run from another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uld be reason "no servers are reached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be useful on local machine - to see if the interface is proper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6F841-A1CB-4EBF-B96C-85B127C01CC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racerout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ping fails, traceroute can help pinpoint where trouble l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problem may be rou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 so - it's not named that needs fixing!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is it important to know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7AE5A-C030-46EF-96A7-00814030370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cpdump and ethere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confident in the environment, problems with DNS set ups may ex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what is happening in the protocol, use traffic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se tools can help debug "forwarding"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thereal can be retrived fro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http://www.ethereal.com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BD307-3D21-41C3-B1A1-2E499D8E2F8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Logging Facilit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's built-i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 and tracerou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cpdump and etherea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 and 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E3491-5A96-4CFD-B2FB-EC20AAC53BA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Best Way To Handle Mistak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sume You Will Make The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pare The Name Server via Logg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AA245-F334-46F0-9887-41ABB437959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Logg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ich messages to se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tegory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ere to send messag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annel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DE436-BF57-4F21-A6AF-768DAC897AB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ategori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has many catego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rt descriptions of each can be found in the Administrator's Reference Manual (ARM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tion 6.2.10.2, page 49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ategory dnssec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nssec_log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EBDCC-D268-40C0-AC6C-412644816EB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hanne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use syslo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direct output to other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hannel dnssec_log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file "seclog" versions 3 size 10m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time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categor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severit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severity debug 3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44E59-E891-45A3-8A15-9C3E356A1DA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o You've Set Up A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testing should be don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Basic liven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(right) server running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machine set up correctly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data being serv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the zone load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ve zone transfers happen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DD26D-11B8-489B-957B-CA2D2B12C9C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ecking the Configur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named start, use the -g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process in the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ints some diagnostic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does not execute logg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satisfied with named's start, kill the process and start without the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-check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ecks syntax on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28BA3-901B-43A5-A8FC-A57C683269B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2:28:22Z</dcterms:created>
  <dc:creator>Edward Lewis</dc:creator>
  <dc:description/>
  <dc:language>en-US</dc:language>
  <cp:lastModifiedBy>Marmaduke Wildebeeste</cp:lastModifiedBy>
  <cp:lastPrinted>2003-02-20T01:50:27Z</cp:lastPrinted>
  <dcterms:modified xsi:type="dcterms:W3CDTF">2003-06-01T20:48:57Z</dcterms:modified>
  <cp:revision>30</cp:revision>
  <dc:subject/>
  <dc:title>PowerPoint Presentation  -  Table of Contents</dc:title>
</cp:coreProperties>
</file>